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3B314F-3792-4FBF-A518-396E74FF74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0C06676-79FC-4E3B-85A3-F8C0939265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075FF1F-6033-4586-8D06-D86AD11F04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A6D73BA-3A14-47D2-BFE0-BB1DADCE44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57FBC9A-FE41-4DB3-980E-CA3D9C66B1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82985E7-905D-4A63-8B45-24FF974A72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4BAB23E-D152-4FBE-972F-3336AD1248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9408993-4622-4299-97A8-2D2D3FD823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EB3EC38-04B1-46BD-882E-49A4D8BD61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F8C8526-9DFC-4593-8F2A-22281B8909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FBFF3FE-6D78-447F-BE28-A12DC923BB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560A5D8-25F0-41EB-A6C4-C39C6A8A81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DD97F-448C-49FA-A9F8-99DF9C446BE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42160"/>
              <a:ext cx="9115560" cy="1815480"/>
              <a:chOff x="28440" y="5042160"/>
              <a:chExt cx="9115560" cy="1815480"/>
            </a:xfrm>
          </p:grpSpPr>
          <p:sp>
            <p:nvSpPr>
              <p:cNvPr id="56"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600" spc="-1" strike="noStrike">
                <a:solidFill>
                  <a:srgbClr val="ff0000"/>
                </a:solidFill>
                <a:latin typeface="黑体"/>
                <a:ea typeface="黑体"/>
              </a:rPr>
              <a:t>第十一章 </a:t>
            </a:r>
            <a:br>
              <a:rPr sz="3600"/>
            </a:br>
            <a:r>
              <a:rPr b="1" lang="en-US" sz="3600" spc="-1" strike="noStrike">
                <a:solidFill>
                  <a:srgbClr val="ff0000"/>
                </a:solidFill>
                <a:latin typeface="黑体"/>
                <a:ea typeface="黑体"/>
              </a:rPr>
              <a:t>  </a:t>
            </a:r>
            <a:r>
              <a:rPr b="1" lang="zh-CN" sz="3600" spc="-1" strike="noStrike">
                <a:solidFill>
                  <a:srgbClr val="ff0000"/>
                </a:solidFill>
                <a:latin typeface="黑体"/>
                <a:ea typeface="黑体"/>
              </a:rPr>
              <a:t>人格障碍患者的护理</a:t>
            </a:r>
            <a:endParaRPr b="0" lang="en-US" sz="36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Verdana"/>
                <a:ea typeface="宋体"/>
              </a:rPr>
              <a:t>制作人   邵山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 name="矩形 2"/>
          <p:cNvSpPr/>
          <p:nvPr/>
        </p:nvSpPr>
        <p:spPr>
          <a:xfrm>
            <a:off x="428760" y="1214280"/>
            <a:ext cx="842940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情感（范围、强度及适当情感唤起和反应）的异常偏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冲动及满足个人需要的异常偏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严重标准：特殊行为模式的异常偏离，使患者感到痛苦或社会适应不良。</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病程标准：始于童年、青少年期，现年</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岁以上已持续</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年。</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排除标准：人格特征的异常偏离并非躯体疾病或精神障碍的表现及后果。躯体疾病及精神障碍所致人格特征偏离正常是原发疾病的症状称为人格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治疗要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情绪不稳定者可给予小剂量吩噻嗪类药物</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具有冲动和攻击行为者碳酸锂可能有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焦虑表现者可给予抗焦虑药物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理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治疗性社区　又称为治疗性团体。</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教育、训练和安排  临床实践证明，惩罚对人格障碍者无效，应通过多方面紧密配合对其提供长期而稳定的服务和管理。</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人格障碍患者的护理</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护理评估</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主观资料</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客观资料</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323640" y="1142640"/>
            <a:ext cx="8569080" cy="516564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常用护理诊断</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有暴力行为的危险。</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交障碍。</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调适不良。</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社交孤立。</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我概念紊乱。</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性形态改变。</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上述护理诊断中，偏执型人格障碍多出现偏执多疑；反社会型人格障碍多出现有暴力行为的危险。</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56760" y="1142640"/>
            <a:ext cx="8610840" cy="4876920"/>
          </a:xfrm>
          <a:prstGeom prst="rect">
            <a:avLst/>
          </a:prstGeom>
          <a:noFill/>
          <a:ln w="0">
            <a:noFill/>
          </a:ln>
        </p:spPr>
        <p:txBody>
          <a:bodyPr anchor="t">
            <a:normAutofit/>
          </a:bodyPr>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护理目标</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能描述使他轻松和焦虑的感觉。</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能用语言表达愤怒和受挫感。</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能用谈话、写信、体力活动等方式表达内心的感受。</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能确认引起低自尊的行为。</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患者逐渐能接受护理人员及其他人对自己的接近和有利于身心健康的帮助。</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患者能现实性地评价自我。</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患者能承认自己的操纵行为。</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患者的自信心逐渐增强。</a:t>
            </a:r>
            <a:endParaRPr b="1" lang="en-US" sz="24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571320" y="1285560"/>
            <a:ext cx="80010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护理措施</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有暴力行为的危险</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护理人员以坦诚、温和、接纳的态度对待患者，主动与其建立良好的护患关系；维持环境的安全性，清除危险物品；鼓励患者在无法控制自己时能立即寻求帮助；鼓励患者以言语表达感觉及发泄敌意，而非攻击行为。</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7" name=""/>
          <p:cNvSpPr txBox="1"/>
          <p:nvPr/>
        </p:nvSpPr>
        <p:spPr>
          <a:xfrm>
            <a:off x="213840" y="1285560"/>
            <a:ext cx="864396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交障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人员本身树立良好的角色模范，并以坦诚、守信的态度与患者建立良好的护患关系；了解患者对人际关系及社交活动的曲解或错误的认知，并帮助患者认识在人际交往中的优缺点；当患者出现操纵、破坏行为时，需当面指出并加以制止；给予正向性的鼓励；鼓励患者多参加集体活动，在集体互动中学习可被接受的行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
          <p:cNvSpPr txBox="1"/>
          <p:nvPr/>
        </p:nvSpPr>
        <p:spPr>
          <a:xfrm>
            <a:off x="356760" y="1285560"/>
            <a:ext cx="8286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调适不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患者表示接纳，以一种非批判性的态度对待其操纵行为；以明确的言辞告诉患者何种行为是被允许或是不被接纳的；对可接纳的言行提供正向性的反馈或奖励，帮助患者延续其即刻性需要的满足；提供一种适宜的治疗环境；帮助患者认清其行为表现，维持与患者持续性的治疗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
          <p:cNvSpPr txBox="1"/>
          <p:nvPr/>
        </p:nvSpPr>
        <p:spPr>
          <a:xfrm>
            <a:off x="214200" y="1142640"/>
            <a:ext cx="87868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社交孤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患者及家属一起制订治疗计划，特别是每日作息时间表；了解患者对人际关系及社交活动的曲解或错误的认知；以坦诚、公开及守信的态度对待患者，以便建立信任感；鼓励患者多参加集体活动和社会接触，包括简单的工作、游戏、音乐、体育活动，培养其有益于身心健康的爱好或学习新的技能；教会患者一些应对压力的技巧（如放松技巧），并帮助其找出适合自己的放松方法；教给患者人际关系及沟通方式的知识、技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3" name=""/>
          <p:cNvSpPr txBox="1"/>
          <p:nvPr/>
        </p:nvSpPr>
        <p:spPr>
          <a:xfrm>
            <a:off x="213840" y="1213920"/>
            <a:ext cx="8643960" cy="48769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我概念紊乱</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针对患者的操纵行为、破坏行为，工作人员之间必须采取一致的态度。鼓励患者积极参与活动及主动承担责任；鼓励患者表达自己的感受及讨论其行为限制、触犯限制的后果；帮助患者自省个人的言行态度及行为，鼓励患者表达自己的感受，并给予恰当的解释；教育患者学会尊重他人人格及人权的技巧及必要性、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214200" y="1371240"/>
            <a:ext cx="87868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掌握：人格障碍的概述、分型、护理措施。</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熟悉：人格障碍的护理诊断。</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熟悉：人格障碍的病史评估、护理评价。</a:t>
            </a:r>
            <a:endParaRPr b="1" lang="en-US" sz="32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5" name=""/>
          <p:cNvSpPr txBox="1"/>
          <p:nvPr/>
        </p:nvSpPr>
        <p:spPr>
          <a:xfrm>
            <a:off x="214200" y="1285560"/>
            <a:ext cx="85010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性形态改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人员应对性观念的知识有充分了解，向患者指出哪些行为属于挑逗性范围，在治疗环境中是不被允许的，并与其讨论发生此行为的后果。鼓励患者积极参加有趣的活动，如跳舞、体育活动、听音乐等；教给患者正确的宣泄方法；若病情允许，可适当安排住院患者外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
          <p:cNvSpPr txBox="1"/>
          <p:nvPr/>
        </p:nvSpPr>
        <p:spPr>
          <a:xfrm>
            <a:off x="500040" y="1071720"/>
            <a:ext cx="8215200" cy="5357520"/>
          </a:xfrm>
          <a:prstGeom prst="rect">
            <a:avLst/>
          </a:prstGeom>
          <a:noFill/>
          <a:ln w="0">
            <a:noFill/>
          </a:ln>
        </p:spPr>
        <p:txBody>
          <a:bodyPr anchor="t">
            <a:normAutofit/>
          </a:bodyPr>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护理评价</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能否建立正向性的自我概念，能正确表达自我的情感。</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能否与人建立良好的人际关系，并能主动与人交往。</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的行为是否符合社会规范，能否控制自己的行为。</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对自己的不适当行为能否正确认识，并能接受治疗者的行为矫正。</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患者能否对自己的不良行为悔改，且能从中吸取教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285480" y="999720"/>
            <a:ext cx="8429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健康指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帮助患者逐渐认识自己的精神状态，了解有关知识，认识病态行为方式对患者身体和心理的危害，以及给家庭和社会带来的严重后果。帮助患者建立新的价值观念和社交关系。使患者建立正常健康的生活方式和行为习惯，培养良好的兴趣爱好。要坚持调整，定期门诊复查。</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85840" y="11426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家属：利用各种方式或媒体对家属进行疾病知识宣教，使家属认识自己教育方式上的问题和缺陷，让家属树立信心，帮助患者克服困难，坚持矫正不良行为。教会家属为患者创造良好的家庭环境，锻炼患者的生活和工作能力，指导家属学会识别、判断疾病症状的方法，使患者家属了解、督促和协助患者纠正异常行为、定期复查的重要性。</a:t>
            </a: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3" name=""/>
          <p:cNvSpPr txBox="1"/>
          <p:nvPr/>
        </p:nvSpPr>
        <p:spPr>
          <a:xfrm>
            <a:off x="571320" y="1213920"/>
            <a:ext cx="8143560" cy="28069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重点总结</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格障碍概念、基本特征</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各型人格障碍的临床表现</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人格障碍的护理措施</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人格障碍的健康指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Rectangle 3"/>
          <p:cNvSpPr/>
          <p:nvPr/>
        </p:nvSpPr>
        <p:spPr>
          <a:xfrm>
            <a:off x="500040" y="1357200"/>
            <a:ext cx="8153280" cy="2568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　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概述</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人格障碍的概念</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格（</a:t>
            </a:r>
            <a:r>
              <a:rPr b="1" lang="en-US" sz="2800" spc="-1" strike="noStrike">
                <a:solidFill>
                  <a:srgbClr val="000000"/>
                </a:solidFill>
                <a:latin typeface="宋体"/>
                <a:ea typeface="宋体"/>
              </a:rPr>
              <a:t>personality</a:t>
            </a:r>
            <a:r>
              <a:rPr b="1" lang="zh-CN" sz="2800" spc="-1" strike="noStrike">
                <a:solidFill>
                  <a:srgbClr val="000000"/>
                </a:solidFill>
                <a:latin typeface="宋体"/>
                <a:ea typeface="宋体"/>
              </a:rPr>
              <a:t>）或称个性（</a:t>
            </a:r>
            <a:r>
              <a:rPr b="1" lang="en-US" sz="2800" spc="-1" strike="noStrike">
                <a:solidFill>
                  <a:srgbClr val="000000"/>
                </a:solidFill>
                <a:latin typeface="宋体"/>
                <a:ea typeface="宋体"/>
              </a:rPr>
              <a:t>character</a:t>
            </a:r>
            <a:r>
              <a:rPr b="1" lang="zh-CN" sz="2800" spc="-1" strike="noStrike">
                <a:solidFill>
                  <a:srgbClr val="000000"/>
                </a:solidFill>
                <a:latin typeface="宋体"/>
                <a:ea typeface="宋体"/>
              </a:rPr>
              <a:t>），是指一个人固有的行为模式及日常活动中待人处事的习惯方式，是全部心理特征的综合。也就是在其生活和实践中经常表现出来的较为稳定的个性心理特点的总和，表现为对广泛的人际和社会处境产生固定的反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8">
                                  <p:stCondLst>
                                    <p:cond delay="0"/>
                                  </p:stCondLst>
                                  <p:childTnLst>
                                    <p:set>
                                      <p:cBhvr>
                                        <p:cTn id="18" dur="1" fill="hold">
                                          <p:stCondLst>
                                            <p:cond delay="0"/>
                                          </p:stCondLst>
                                        </p:cTn>
                                        <p:tgtEl>
                                          <p:spTgt spid="111">
                                            <p:txEl>
                                              <p:pRg st="2" end="2"/>
                                            </p:txEl>
                                          </p:spTgt>
                                        </p:tgtEl>
                                        <p:attrNameLst>
                                          <p:attrName>style.visibility</p:attrName>
                                        </p:attrNameLst>
                                      </p:cBhvr>
                                      <p:to>
                                        <p:strVal val="visible"/>
                                      </p:to>
                                    </p:set>
                                    <p:anim calcmode="lin" valueType="num">
                                      <p:cBhvr additive="base">
                                        <p:cTn id="19"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2" presetSubtype="8">
                                  <p:stCondLst>
                                    <p:cond delay="0"/>
                                  </p:stCondLst>
                                  <p:childTnLst>
                                    <p:set>
                                      <p:cBhvr>
                                        <p:cTn id="24" dur="1" fill="hold">
                                          <p:stCondLst>
                                            <p:cond delay="0"/>
                                          </p:stCondLst>
                                        </p:cTn>
                                        <p:tgtEl>
                                          <p:spTgt spid="111">
                                            <p:txEl>
                                              <p:pRg st="3" end="3"/>
                                            </p:txEl>
                                          </p:spTgt>
                                        </p:tgtEl>
                                        <p:attrNameLst>
                                          <p:attrName>style.visibility</p:attrName>
                                        </p:attrNameLst>
                                      </p:cBhvr>
                                      <p:to>
                                        <p:strVal val="visible"/>
                                      </p:to>
                                    </p:set>
                                    <p:anim calcmode="lin" valueType="num">
                                      <p:cBhvr additive="base">
                                        <p:cTn id="25"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1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85480" y="1356840"/>
            <a:ext cx="80722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格的形成与先天的生理特征及后天的生活环境均有着较为密切的关系，童年生活对人格形成有着非常重要的作用，而且人格一旦形成即具有相对的稳定性。但重大的生活事件及个人的成长经历仍会使人格发生一定程度的变化。</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因此，人格既具有相对的稳定性，又具有一定的可塑性。</a:t>
            </a: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480" y="1142640"/>
            <a:ext cx="84294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人格障碍的基本特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格障碍开始于童年、青少年或成年早期，并一直持续到成年乃至终生。</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能存在脑功能损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人格显著偏离正常，形成与众不同的行为模式，如情绪不稳、易激惹、情感肤浅或冷酷无情等。</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人格障碍主要表现为情感和行为的异常，但其意识状态、智力均无明显缺陷。一般没有幻觉和妄想，可与精神障碍相鉴别。</a:t>
            </a:r>
            <a:endParaRPr b="1" lang="en-US" sz="28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5840" y="1428840"/>
            <a:ext cx="86248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多数人格障碍者对自身人格缺陷常无自知之明，难以从失败中吸取教训，尽管经常碰壁、冲突不断，但患者经常犯同样的错误，以致害人害己。</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人格障碍者一般能应付日常工作和生活，能理解自己行为的后果，也能在一定程度上理解社会对其行为的评价，主观上常感到痛苦。</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各种治疗手段对人格障碍效果欠佳，医疗措施难以奏效，再教育效果也有限。</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内容占位符 1"/>
          <p:cNvSpPr/>
          <p:nvPr/>
        </p:nvSpPr>
        <p:spPr>
          <a:xfrm>
            <a:off x="571680" y="1258920"/>
            <a:ext cx="8143560" cy="48848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病因及发病机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因素</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精神生物学</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社会和心理因素</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教育方式不当</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总之，人格障碍的病因复杂，目前认为是多因素相互作用的结果，个人的人格一旦形成，常具有一定的恒定性，要改变并非易事，但只要加强自我调适和进行各种治疗，人格障碍是可以得到纠正的。</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矩形 2"/>
          <p:cNvSpPr/>
          <p:nvPr/>
        </p:nvSpPr>
        <p:spPr>
          <a:xfrm>
            <a:off x="571680" y="1071720"/>
            <a:ext cx="7072200" cy="5213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临床表现</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裂样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偏执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冲动型（攻击性）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反社会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癔症型（表演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强迫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焦虑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依赖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其他或待分类的人格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矩形 2"/>
          <p:cNvSpPr/>
          <p:nvPr/>
        </p:nvSpPr>
        <p:spPr>
          <a:xfrm>
            <a:off x="428760" y="1214280"/>
            <a:ext cx="8215200" cy="2945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诊断要点</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人格障碍的共同特征</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格障碍的诊断主要依据病史，其共同特征见“人格障碍的基本特征”。</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诊断标准</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症状标准：个人的内心体验与行为特征在整体上与其文化所期望的和所接受的范围明显偏离，这种偏离是广泛、稳定和长期的，起始于儿童期或青少年期，并至少有下列</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项：</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认知（感知及解释人和事物，由此形成对自我及他人的态度和行为的方式）的异常偏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39:22Z</dcterms:modified>
  <cp:revision>8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